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12.jpeg" ContentType="image/jpe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493-AA89-4FDC-AEEA-BED389D3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82A-A5EE-44AD-A0BA-F5B4D753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3763-EEF7-424B-8E47-73392B75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B23-C86F-480F-BC7D-F195BE5D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CE4-7C92-4B78-9E43-CC875171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DAF-ED80-423A-9338-62866A9D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AD0-C12C-46A7-AA8E-9FDE8A34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40B-B025-4979-AC3D-7AF548D3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64A-3BB0-46AD-9EB8-6FA79B58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EBC-E46A-4B5B-A840-7609CB08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F08-0901-41FD-B913-B1C0CBD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4FE-ECEB-4122-BC7C-F1B4BC10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37B6-A064-49D0-B719-67FD48514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w a Bigger Bub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dra Patt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174132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flabbergasted by the conclusion.  Orbit blew the biggest bubble.  A gum that is meant for chewing and not b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572000" y="1371600"/>
            <a:ext cx="4572000" cy="2819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52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of my particip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rands of bubble gum produce the biggest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1504800" cy="351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3962520"/>
            <a:ext cx="1936800" cy="245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62520" y="2514600"/>
            <a:ext cx="2257200" cy="2316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705720" y="22860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562720" y="4648320"/>
            <a:ext cx="15192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Double Bubble is going to make the biggest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35053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Y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icy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ba B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Bub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rd stick/ measur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8354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4 people of each gender who think they are good at blowing bubb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Bubble Yum, Hubba Bubba, Juicy Fruit and Double Bub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each blow 3 bubbles of each kind of bubble g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how long each bubble is in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0480"/>
        </p:xfrm>
        <a:graphic>
          <a:graphicData uri="http://schemas.openxmlformats.org/drawingml/2006/table">
            <a:tbl>
              <a:tblPr/>
              <a:tblGrid>
                <a:gridCol w="1496880"/>
                <a:gridCol w="1873440"/>
                <a:gridCol w="1496880"/>
                <a:gridCol w="1498680"/>
                <a:gridCol w="1863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yn Gilles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llas Rh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5235480"/>
        </p:xfrm>
        <a:graphic>
          <a:graphicData uri="http://schemas.openxmlformats.org/drawingml/2006/table">
            <a:tbl>
              <a:tblPr/>
              <a:tblGrid>
                <a:gridCol w="1566720"/>
                <a:gridCol w="1960560"/>
                <a:gridCol w="1567080"/>
                <a:gridCol w="1568520"/>
                <a:gridCol w="1566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ckyn F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yde Sundhe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8880" cy="4525560"/>
        </p:xfrm>
        <a:graphic>
          <a:graphicData uri="http://schemas.openxmlformats.org/drawingml/2006/table">
            <a:tbl>
              <a:tblPr/>
              <a:tblGrid>
                <a:gridCol w="1645200"/>
                <a:gridCol w="1646280"/>
                <a:gridCol w="1645560"/>
                <a:gridCol w="1645560"/>
                <a:gridCol w="1646280"/>
              </a:tblGrid>
              <a:tr h="105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drah Pay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600200"/>
          <a:ext cx="8838720" cy="2971800"/>
        </p:xfrm>
        <a:graphic>
          <a:graphicData uri="http://schemas.openxmlformats.org/drawingml/2006/table">
            <a:tbl>
              <a:tblPr/>
              <a:tblGrid>
                <a:gridCol w="1609920"/>
                <a:gridCol w="2005560"/>
                <a:gridCol w="1607760"/>
                <a:gridCol w="1609920"/>
                <a:gridCol w="2005560"/>
              </a:tblGrid>
              <a:tr h="116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ylan Bar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752480" y="4648320"/>
          <a:ext cx="5181840" cy="178272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</a:tblGrid>
              <a:tr h="74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1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9:55:01Z</dcterms:created>
  <dc:creator>USD376</dc:creator>
  <dc:description/>
  <dc:language>en-US</dc:language>
  <cp:lastModifiedBy>USD376</cp:lastModifiedBy>
  <dcterms:modified xsi:type="dcterms:W3CDTF">2010-12-16T20:03:08Z</dcterms:modified>
  <cp:revision>9</cp:revision>
  <dc:subject/>
  <dc:title>Blow a Bigger Bubble</dc:title>
</cp:coreProperties>
</file>